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12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AF7D-1A99-4B26-A881-0517C1CE4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1BCD-032A-4BB6-85E7-2BA98A89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BEDE-4817-4EF0-B976-F77FFC078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90A9-747F-4BBF-8468-36567A288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FF4C-F288-4D6D-97CD-B76DEEEF1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55F6-6349-4C8E-8C41-5F88306E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81A1-80F7-434E-A8BF-A977139C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129E-7421-40C1-BD2E-51F05220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8E25-A88C-4123-A508-BDA183E1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4E18-AE94-4162-B869-4492132B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5AA9-41EF-4988-AF69-7395F083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9314-22BB-4FE2-B79B-EF76A1E4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E099-D87B-4874-A6B6-A55D7CA5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B5C1-D86D-41B9-B532-9D6FC294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ED8B-4B44-45AE-AE97-A7BF401F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57F5-D03A-4923-8E97-8B8741A7F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BA8C-238E-4480-843C-F44D45C0D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8096-163A-4E7E-B957-4F0CF822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8FEB-483F-4634-ABA9-44E758FD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913F-BC9C-4494-904B-61972CBB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B58A-C3A3-4C0E-A6EC-63579FC8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A46E-422B-4883-BB05-606FD711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C613-7219-441E-B651-262C5D9E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5665-597C-438B-9E30-01AA9FF2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85C0-471C-400C-8692-AC386A4BCF0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DD57-39F0-4BC0-BFD7-BE4A8658AF6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Да здравствует мыло душистое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370160" y="1827360"/>
            <a:ext cx="3579840" cy="4114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аботу выполнила ученица 10 класса «Б»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МБОУ СОШ №54 г.Новосибирск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улатова Наталья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366552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Цель и задачи работы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95800" y="1827360"/>
            <a:ext cx="358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Цел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определить содержание триэтаноламина в мыле ((HOCH2CH2)3N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 Узнать что такое ТЭА. Какую роль он выполняет в мыле и его значе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Выполнить практическую работу по определению содержания триэтаноламин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Сделать выводы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3360960" cy="4392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370160" y="1827360"/>
            <a:ext cx="35798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риготовить навески различных сортов мыла по 2 г.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26920" y="3284640"/>
            <a:ext cx="3073680" cy="2305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508720" y="3357720"/>
            <a:ext cx="3073320" cy="2304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Порядок и техника выполнения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Порядок и техника выполнения работы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31640" y="1915920"/>
            <a:ext cx="36003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В колбу объемом 250 мл налить 50 мл дистиллированной воды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Добавить 2 г хорошо измельченного мыл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Растворить и добавить несколько капель метилового оранжевого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867280" y="1773360"/>
            <a:ext cx="2740320" cy="2303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102280" y="1827000"/>
            <a:ext cx="3581280" cy="1981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796000" y="4365720"/>
            <a:ext cx="2523960" cy="187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512360" y="2347560"/>
            <a:ext cx="3870360" cy="34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Содержимое колбы титруем 0,1 н раствором соляной кислоты (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HCl)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до появления красного окрашивания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64000" y="2205000"/>
            <a:ext cx="2846520" cy="2394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332000" y="33336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Порядок и техника выполнения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Результат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141640" y="2203560"/>
          <a:ext cx="5599080" cy="3841560"/>
        </p:xfrm>
        <a:graphic>
          <a:graphicData uri="http://schemas.openxmlformats.org/drawingml/2006/table">
            <a:tbl>
              <a:tblPr/>
              <a:tblGrid>
                <a:gridCol w="2624760"/>
                <a:gridCol w="2622960"/>
                <a:gridCol w="35136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звание мыл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держание ТЭА 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ve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,5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тское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3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x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,3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,9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Результаты обработки данных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258920" y="1700280"/>
          <a:ext cx="6696000" cy="44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700280"/>
                    <a:ext cx="669600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Times New Roman"/>
              </a:rPr>
              <a:t>Выводы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87640" y="1557000"/>
            <a:ext cx="3803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. Современные процессы изготовления мыла не могут обойтись без ТЭА, так как его введение позволяет улучшить потребительские свойства мыл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2. По результатам вычислений видно, что самое высокое содержание ТЭА в детском мыле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3. Сопоставив данные практической работы двух лет, для себя мы сделали вывод, что лучше всего пользоваться мылами детской группы. В них самое высокое содержание жирных кислот и ТЭА. Это мыло можно использовать для любого типа кожи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54120" y="2178000"/>
            <a:ext cx="2743200" cy="1766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42920" y="4149720"/>
            <a:ext cx="2952720" cy="2216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20:54:56Z</dcterms:created>
  <dc:creator>bds</dc:creator>
  <dc:description/>
  <dc:language>en-US</dc:language>
  <cp:lastModifiedBy>bds</cp:lastModifiedBy>
  <dcterms:modified xsi:type="dcterms:W3CDTF">2011-01-30T12:41:25Z</dcterms:modified>
  <cp:revision>17</cp:revision>
  <dc:subject/>
  <dc:title>Да здравствует мыло душистое!</dc:title>
</cp:coreProperties>
</file>